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F95-9880-4731-AF7E-4172FED2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1FE-3960-4D71-87BD-32787DEE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577-5D9E-4261-9FD0-26198EF8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F18-C4A6-4B44-9AD0-041EE7AA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5F3-00B0-4B15-9257-7A925879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C3F-B347-418F-AE60-458D7A24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7D2-8EA7-4609-80BC-8F6FE8E2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3A1-4218-43C6-B338-8ECDB6BB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381-8E76-40B2-BC3F-048B6852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5E3-8A02-4B8B-B44B-5E589B1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A84-C475-4191-9C3D-F61630DD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FA3-804B-44FE-87B1-44AA7FF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CFD-1C39-416E-87DC-8D2754ED3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44280"/>
            <a:ext cx="6408720" cy="81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     </a:t>
            </a:r>
            <a:r>
              <a:rPr b="1" lang="bg-BG" sz="4800" spc="-1" strike="noStrike">
                <a:solidFill>
                  <a:srgbClr val="ffff00"/>
                </a:solidFill>
                <a:latin typeface="Baskerville Old Face"/>
              </a:rPr>
              <a:t>9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прибежище добр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ти вечна Канар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з Господните ребр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кръв изтече и вод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нека те да ме спася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 омият от грех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27280" y="115920"/>
            <a:ext cx="640872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2. Сълзи да проливам аз непрестанно, всеки час, никога не могат те греховете ми отн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Но Ти, вечна Канар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ме спасяваш от грех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27280" y="241200"/>
            <a:ext cx="640872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3. Нищо аз в ръцете с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не донасям, Господ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Гол съм - даваш облекло, нищо съм - даваш добро! Гладен, жаден - ястие даваш Ти и пит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5640" y="260280"/>
            <a:ext cx="684036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4. В краткотрайния</a:t>
            </a: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живот, Господи, до мен бъди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Близо в тоз плачевен дол</a:t>
            </a: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 пред съдния престол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Прибежище добр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Ти вечна Канар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1:28:03Z</dcterms:created>
  <dc:creator>TrifonTrifonow</dc:creator>
  <dc:description/>
  <dc:language>en-US</dc:language>
  <cp:lastModifiedBy>TrifonTrifonow</cp:lastModifiedBy>
  <dcterms:modified xsi:type="dcterms:W3CDTF">2005-11-22T09:21:25Z</dcterms:modified>
  <cp:revision>10</cp:revision>
  <dc:subject/>
  <dc:title>Slide 1</dc:title>
</cp:coreProperties>
</file>